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A5F-113C-480C-830B-71350C36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079-A9E7-4851-8EA0-7D16641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C1E-A3A6-4047-B6F2-9440B2E5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DAC-8E1A-487F-92DB-900643E8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C15-BC6D-4500-934F-1704930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B87-8D48-4056-AE86-80B9055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053-5E76-4EA7-AE6D-4768C30F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CCC-066C-48D9-AFD9-4ED38DD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34A-7261-4A72-ADEA-061F2F9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533-6C5D-4F9D-9F5E-8478F70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047-1FD0-4FE8-A424-F0341E4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946-7A7D-47B2-A98B-A75F1FC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507-3488-4CF3-B6D9-37D42CFE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9880" y="1268280"/>
            <a:ext cx="9175320" cy="402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/Небето разказва делата на Бог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просторът Му отдава хвала. /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Говорят без глас ден след ден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нощ след нощ те тайни мълвят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Небето разказва делата на Бог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просторът Му отдава хвал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0" y="1197000"/>
            <a:ext cx="9175320" cy="402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/Небето разказва делата на Бог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просторът Му отдава хвала. /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Викът им лети по целия свят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всеки народ ще чуе вестт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Небето разказва делата на Бог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ccffff"/>
                </a:solidFill>
                <a:latin typeface="Arial"/>
                <a:ea typeface="Arial"/>
              </a:rPr>
              <a:t>просторът Му отдава хвал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51:49Z</dcterms:created>
  <dc:creator>TrifonTrifonow</dc:creator>
  <dc:description/>
  <dc:language>en-US</dc:language>
  <cp:lastModifiedBy>TrifonTrifonow</cp:lastModifiedBy>
  <dcterms:modified xsi:type="dcterms:W3CDTF">2005-09-19T13:07:29Z</dcterms:modified>
  <cp:revision>4</cp:revision>
  <dc:subject/>
  <dc:title>Slide 1</dc:title>
</cp:coreProperties>
</file>